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Naming Binary Ionic Compound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7759440"/>
            <a:ext cx="104648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Hawkins 2012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hat is an ion?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Gill Sans"/>
              </a:rPr>
              <a:t>ion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is an atom or group of atoms that has an electric charg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 group of atoms that has an electric charge is referred to as a 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Gill Sans"/>
              </a:rPr>
              <a:t>polyatomic ion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xample:  Na</a:t>
            </a:r>
            <a:r>
              <a:rPr b="0" lang="en-US" sz="4300" spc="-1" strike="noStrike" baseline="32000">
                <a:solidFill>
                  <a:srgbClr val="000000"/>
                </a:solidFill>
                <a:latin typeface="Gill Sans"/>
              </a:rPr>
              <a:t>+</a:t>
            </a:r>
            <a:r>
              <a:rPr b="0" lang="en-US" sz="4300" spc="-1" strike="noStrike">
                <a:solidFill>
                  <a:srgbClr val="000000"/>
                </a:solidFill>
                <a:latin typeface="Gill Sans"/>
              </a:rPr>
              <a:t> or SO</a:t>
            </a:r>
            <a:r>
              <a:rPr b="0" lang="en-US" sz="4300" spc="-1" strike="noStrike" baseline="-6000">
                <a:solidFill>
                  <a:srgbClr val="000000"/>
                </a:solidFill>
                <a:latin typeface="Gill Sans"/>
              </a:rPr>
              <a:t>4</a:t>
            </a:r>
            <a:r>
              <a:rPr b="0" lang="en-US" sz="4300" spc="-1" strike="noStrike" baseline="32000">
                <a:solidFill>
                  <a:srgbClr val="000000"/>
                </a:solidFill>
                <a:latin typeface="Gill Sans"/>
              </a:rPr>
              <a:t>2-</a:t>
            </a: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ations and Anion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 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Gill Sans"/>
              </a:rPr>
              <a:t>cation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is a positively charged ion.  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Example Ca</a:t>
            </a:r>
            <a:r>
              <a:rPr b="0" i="1" lang="en-US" sz="4200" spc="-1" strike="noStrike" baseline="32000">
                <a:solidFill>
                  <a:srgbClr val="000000"/>
                </a:solidFill>
                <a:latin typeface="Gill Sans"/>
              </a:rPr>
              <a:t>2+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n anion is a negatively charged ion.  Example O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-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Naming Simple Binary Compound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60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Naming simple binary compounds is eas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rst identify the cation and an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write the name of the ca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en write the name of the anion, after the cation,  but change the ending to -id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xample NaCl           Sodium Chlorid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5956200" y="7569360"/>
            <a:ext cx="787680" cy="507960"/>
          </a:xfrm>
          <a:prstGeom prst="rightArrow">
            <a:avLst>
              <a:gd name="adj1" fmla="val 32000"/>
              <a:gd name="adj2" fmla="val 110054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ractic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aCl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aBr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KC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LiF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ractic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42640" y="26157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aCl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aBr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KC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LiF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4500720" y="3915360"/>
            <a:ext cx="4245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alcium Chlorid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4480200" y="4842360"/>
            <a:ext cx="4286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alcium Bromid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>
            <a:off x="4406400" y="5769360"/>
            <a:ext cx="4865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otassium Chlorid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>
            <a:off x="4448880" y="6747480"/>
            <a:ext cx="4094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Lithium Fluorid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